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EB077-ECF3-4CFC-8F10-99F9FFBD4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3F77E-6A2E-4562-BABF-0248B6F29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EA101-3F15-4722-9115-AE5266D42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EF58F-CDB2-4CD8-B6FB-22F0427C7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FF5C2-6B65-4F2A-B586-E35ED57D9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A0E0E-0F93-4027-B96E-BC0BA032F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AC8AB-D7DC-4F9E-859D-8C403D1F7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3A81E-5371-49F3-8ECB-8F4E0B69D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3FDE3-C1D7-480E-9FCA-366447839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86F14-BC17-4310-8BB6-F878E4CCC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B1AC3-3CED-47D1-B5D2-EE40533B5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D1A9C-9E6C-476B-B4F0-F0FAB5B95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32D8E-F18A-41AF-8C47-4B47745293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Math 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4343400" y="4114800"/>
                <a:ext cx="7714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∈</m:t>
                    </m:r>
                    <m:nary>
                      <m:naryPr>
                        <m:chr m:val="∰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1:09:10Z</dcterms:created>
  <dc:creator>Oliver Craemer</dc:creator>
  <dc:description/>
  <dc:language>en-US</dc:language>
  <cp:lastModifiedBy>Oliver Craemer</cp:lastModifiedBy>
  <dcterms:modified xsi:type="dcterms:W3CDTF">2005-01-06T11:09:21Z</dcterms:modified>
  <cp:revision>1</cp:revision>
  <dc:subject/>
  <dc:title>Math OLE</dc:title>
</cp:coreProperties>
</file>