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92185"/>
        <c:axId val="84309307"/>
      </c:barChart>
      <c:catAx>
        <c:axId val="53921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309307"/>
        <c:crosses val="autoZero"/>
        <c:auto val="1"/>
        <c:lblAlgn val="ctr"/>
        <c:lblOffset val="100"/>
        <c:noMultiLvlLbl val="0"/>
      </c:catAx>
      <c:valAx>
        <c:axId val="843093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921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ED65-8E61-4D28-B5C4-52F5974DB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DD93-57F6-40B1-963C-4914352B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56F7-1E87-4258-AE59-883A1CC4D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1D0B-F7D2-4E67-9E50-79CF02AB8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2BE0-B16B-4FCB-8057-CEF380CE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5CCF-B159-49B1-8C84-11E7A96A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B545-7C91-46AF-B4A5-6F001D6A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9ACB-072F-48D7-A990-C0B101CA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DF25-7F69-443F-8881-6376C1C1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D31E-82C4-4CC9-99C1-79C2D20F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F181-0962-4252-A0C7-383D8AA6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C693-0275-46CB-8104-98434879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80A50-80E6-423C-A23F-3FA0B58734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