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37306"/>
        <c:axId val="70386790"/>
      </c:barChart>
      <c:catAx>
        <c:axId val="87237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86790"/>
        <c:crosses val="autoZero"/>
        <c:auto val="1"/>
        <c:lblAlgn val="ctr"/>
        <c:lblOffset val="100"/>
        <c:noMultiLvlLbl val="0"/>
      </c:catAx>
      <c:valAx>
        <c:axId val="70386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7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F72-8FA5-48C0-88B6-A8F3661D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068-AC09-41A7-B0A6-3B2EB30A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F44-61B5-4D67-A350-DBD4ABF3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850-EB07-46B2-A82B-A71053B3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357-C591-40B4-B801-2557D6E0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825-6DAC-4ACB-ADE8-1735DE39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183-F772-478B-9D0E-9989FF0B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C6E-689A-44DF-A731-DAD7F0BD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DD5-B712-4613-A4BA-91C662E1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AB35-7E68-418A-A0C3-2A37E51C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134-0A88-45F9-8B95-535F23F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1BF-99BB-4074-9F6D-A025C05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D4482-E2A8-40C6-BF8D-4A8961243C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