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0823"/>
        <c:axId val="85058555"/>
      </c:barChart>
      <c:catAx>
        <c:axId val="7490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8555"/>
        <c:crosses val="autoZero"/>
        <c:auto val="1"/>
        <c:lblAlgn val="ctr"/>
        <c:lblOffset val="100"/>
        <c:noMultiLvlLbl val="0"/>
      </c:catAx>
      <c:valAx>
        <c:axId val="85058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EB9-D131-4794-B112-65A24288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81F-43AE-4184-9941-4F34A8D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69D-9D60-4AFE-A63A-6AFAD024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C7A-D48D-41B4-AB58-A32C018F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1A8-D2F4-44A0-9404-00E7BE4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2F3-B450-4D23-85BF-1FDA584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7AC-9D19-40F8-9A57-CAD9DE9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FC4-90A6-461E-9594-2AA3171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4C0-C5F5-4C17-99CC-CE06E1E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49E-1D94-4B22-8FCE-035AC8D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357-71B9-455E-B3E6-F874D3A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823-3A4B-486E-A09F-B57CF08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B6FFE-3232-44CC-984C-0359BD573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